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5AF-E8B8-4F17-A712-F3C00889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CE5-79DE-4B63-BB92-AEB69C1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19C-2FBA-4FEB-A65E-2D2EB63A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0AA-E689-4DC3-8871-81BBFD90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4B3-9E56-41A2-B614-386E808A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7D5-D249-4828-B03D-D8CC7AD9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313-F374-4558-BB19-2943AD37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1D14-9009-4FA8-AE00-BF9000BE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5178-A671-4D75-90D0-64A4974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4D2-7753-4660-AA9A-2C1C520C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C96-218B-4988-8620-C5D804EC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400-55F8-4208-99E1-A58BF3A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DE61-E36B-4694-8E4E-625328FD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2286000"/>
            <a:ext cx="586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Tribecca Travis</a:t>
            </a:r>
            <a:endParaRPr b="1" i="1" lang="en-US" sz="5400" spc="1" strike="noStrike">
              <a:ln w="38160">
                <a:solidFill>
                  <a:srgbClr val="00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 rot="1262400">
            <a:off x="6857640" y="380880"/>
            <a:ext cx="1744560" cy="2210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70160" y="3084480"/>
            <a:ext cx="46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7315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Monotype Corsiva"/>
              </a:rPr>
              <a:t>Dra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Monotype Corsiva"/>
              </a:rPr>
              <a:t>Writing Poems and Spee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ff00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ff"/>
                </a:solidFill>
                <a:latin typeface="Monotype Corsiva"/>
              </a:rPr>
              <a:t>Debating for what I feel is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95280" y="533520"/>
            <a:ext cx="62485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9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latin typeface="Monotype Corsiva"/>
              </a:rPr>
              <a:t>I Am Good At.....</a:t>
            </a:r>
            <a:endParaRPr b="1" lang="en-US" sz="4000" spc="1" strike="noStrike">
              <a:ln w="19080">
                <a:solidFill>
                  <a:srgbClr val="ffff00"/>
                </a:solidFill>
                <a:miter/>
              </a:ln>
              <a:solidFill>
                <a:srgbClr val="00ffff"/>
              </a:solidFill>
              <a:latin typeface="Monotype Corsiva"/>
              <a:ea typeface="Monotype Corsiva"/>
            </a:endParaRPr>
          </a:p>
        </p:txBody>
      </p:sp>
    </p:spTree>
  </p:cSld>
  <p:transition spd="slow" advTm="4000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00200" y="685800"/>
            <a:ext cx="6058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316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My Favorite Websites Are....</a:t>
            </a:r>
            <a:endParaRPr b="1" lang="en-US" sz="4400" spc="1" strike="noStrike">
              <a:ln w="3168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819520"/>
            <a:ext cx="8839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Monotype Corsiva"/>
              </a:rPr>
              <a:t>MyLifetime.com (For The Gam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Monotype Corsiva"/>
              </a:rPr>
              <a:t>Urbanchat.com( When I’m Really Bor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00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ff00"/>
                </a:solidFill>
                <a:latin typeface="Monotype Corsiva"/>
              </a:rPr>
              <a:t>Slack_Time.com( Because I Love Musi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533520"/>
            <a:ext cx="710424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Script MT Bold"/>
              </a:rPr>
              <a:t>My Favorite Foods Are....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Script MT Bold"/>
              <a:ea typeface="Script MT Bold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308916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awfish 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Gator Sa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Boudain/Boudain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ack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raw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ried 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Frito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2286000"/>
            <a:ext cx="3521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Mac~n~Che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To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halu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Armad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Pig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heperd’s 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Blackberry Du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Snow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Cookies~n~Cream ice C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28800" y="533520"/>
            <a:ext cx="545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My Favorite Teachers Are...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362320"/>
            <a:ext cx="685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rs. We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s. Par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s. David (In Shrevepo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iddyup Std"/>
              </a:rPr>
              <a:t>Mr. Grisham (In Shrevepo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1000" autoRev="1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81080" y="304920"/>
            <a:ext cx="5029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irclePour">
              <a:avLst>
                <a:gd name="adj1" fmla="val 1086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Giddyup Std"/>
              </a:rPr>
              <a:t>If I Could I Would...</a:t>
            </a:r>
            <a:endParaRPr b="1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Giddyup Std"/>
              <a:ea typeface="Giddyup Std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2971800"/>
            <a:ext cx="6721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I would rule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Be a Fashion De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An Archit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pperplate Gothic Bold"/>
              </a:rPr>
              <a:t>My Bachelors in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6858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iddyup Std"/>
              </a:rPr>
              <a:t>My Favorite Athlete and Singer is....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iddyup Std"/>
              <a:ea typeface="Giddyup Std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133720"/>
            <a:ext cx="2667240" cy="64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Mary J. Bl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Erykah B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Lloy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Lauren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S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Jagged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Asha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Tevin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28600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Venus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Reggie B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Dwayne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ddyup St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iddyup Std"/>
              </a:rPr>
              <a:t>Tomlinson (Charg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7500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228600"/>
            <a:ext cx="36288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 Ten Years....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889280" y="2500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362320"/>
            <a:ext cx="6035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I will be an architect and a L.V.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M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With 2 Kids (a boy and a gir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Living in the country, or move back       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to Shreveport,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Financially, Emotionally, and  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	</a:t>
            </a:r>
            <a:r>
              <a:rPr b="1" lang="en-US" sz="2400" spc="-1" strike="noStrike">
                <a:solidFill>
                  <a:srgbClr val="ff00ff"/>
                </a:solidFill>
                <a:latin typeface="Maiandra GD"/>
              </a:rPr>
              <a:t>Physically inta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3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880" y="457200"/>
            <a:ext cx="815364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RingInsid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dobe Garamond Pro Bold"/>
              </a:rPr>
              <a:t>That's All.  The End!!!!!</a:t>
            </a:r>
            <a:endParaRPr b="0" lang="en-US" sz="40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dobe Garamond Pro Bold"/>
              <a:ea typeface="Adobe Garamond Pro Bold"/>
            </a:endParaRPr>
          </a:p>
        </p:txBody>
      </p:sp>
    </p:spTree>
  </p:cSld>
  <p:transition spd="slow" advTm="4000">
    <p:newsflash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5:57Z</dcterms:created>
  <dc:creator>809277</dc:creator>
  <dc:description/>
  <dc:language>en-US</dc:language>
  <cp:lastModifiedBy>809277</cp:lastModifiedBy>
  <dcterms:modified xsi:type="dcterms:W3CDTF">2008-10-31T15:44:06Z</dcterms:modified>
  <cp:revision>6</cp:revision>
  <dc:subject/>
  <dc:title>Slide 1</dc:title>
</cp:coreProperties>
</file>